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3C8-A374-4F05-AEE8-1FB3BBB1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B70-7BDD-40E1-91E6-F555851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469-B6D3-4EA8-850D-3A8F269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705-356C-4755-AD8A-D6EC1AC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F71-023B-47A6-9504-E15882CD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7D0-2665-4944-A805-FFCC527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9DB-737A-480D-AFA6-699725AB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B76-8ECF-4D50-A55C-F76F390E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938-C635-4D9A-8192-5F6E52A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E53-287E-4EA8-B9A1-DAEEB4D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FA9-6104-406E-B495-BD44E1F2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286-E888-40B6-A7E1-8732962C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3240"/>
            <a:ext cx="9144000" cy="26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-1440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ick de co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680320" y="22320"/>
            <a:ext cx="196920" cy="206280"/>
          </a:xfrm>
          <a:custGeom>
            <a:avLst/>
            <a:gdLst>
              <a:gd name="textAreaLeft" fmla="*/ 12600 w 196920"/>
              <a:gd name="textAreaRight" fmla="*/ 184320 w 196920"/>
              <a:gd name="textAreaTop" fmla="*/ 12600 h 206280"/>
              <a:gd name="textAreaBottom" fmla="*/ 193680 h 206280"/>
            </a:gdLst>
            <a:ahLst/>
            <a:rect l="textAreaLeft" t="textAreaTop" r="textAreaRight" b="textAreaBottom"/>
            <a:pathLst>
              <a:path w="21600" h="22625">
                <a:moveTo>
                  <a:pt x="0" y="0"/>
                </a:moveTo>
                <a:lnTo>
                  <a:pt x="21600" y="0"/>
                </a:lnTo>
                <a:lnTo>
                  <a:pt x="21600" y="22625"/>
                </a:lnTo>
                <a:lnTo>
                  <a:pt x="0" y="22625"/>
                </a:lnTo>
                <a:close/>
              </a:path>
              <a:path fill="lightenLess" w="21600" h="226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5">
                <a:moveTo>
                  <a:pt x="21600" y="0"/>
                </a:moveTo>
                <a:lnTo>
                  <a:pt x="21600" y="22625"/>
                </a:lnTo>
                <a:lnTo>
                  <a:pt x="20200" y="21225"/>
                </a:lnTo>
                <a:lnTo>
                  <a:pt x="20200" y="1400"/>
                </a:lnTo>
                <a:close/>
              </a:path>
              <a:path fill="darkenLess" w="21600" h="22625">
                <a:moveTo>
                  <a:pt x="21600" y="22625"/>
                </a:moveTo>
                <a:lnTo>
                  <a:pt x="0" y="22625"/>
                </a:lnTo>
                <a:lnTo>
                  <a:pt x="1400" y="21225"/>
                </a:lnTo>
                <a:lnTo>
                  <a:pt x="20200" y="21225"/>
                </a:lnTo>
                <a:close/>
              </a:path>
              <a:path fill="lighten" w="21600" h="22625">
                <a:moveTo>
                  <a:pt x="0" y="226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5"/>
                </a:lnTo>
                <a:close/>
              </a:path>
              <a:path fill="darken" w="21600" h="22625">
                <a:moveTo>
                  <a:pt x="3794" y="4306"/>
                </a:moveTo>
                <a:lnTo>
                  <a:pt x="17806" y="11312"/>
                </a:lnTo>
                <a:lnTo>
                  <a:pt x="3794" y="1831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437680" y="17640"/>
            <a:ext cx="206280" cy="212400"/>
          </a:xfrm>
          <a:custGeom>
            <a:avLst/>
            <a:gdLst>
              <a:gd name="textAreaLeft" fmla="*/ 13320 w 206280"/>
              <a:gd name="textAreaRight" fmla="*/ 192960 w 206280"/>
              <a:gd name="textAreaTop" fmla="*/ 13320 h 212400"/>
              <a:gd name="textAreaBottom" fmla="*/ 199080 h 212400"/>
            </a:gdLst>
            <a:ahLst/>
            <a:rect l="textAreaLeft" t="textAreaTop" r="textAreaRight" b="textAreaBottom"/>
            <a:pathLst>
              <a:path w="21600" h="22240">
                <a:moveTo>
                  <a:pt x="0" y="0"/>
                </a:moveTo>
                <a:lnTo>
                  <a:pt x="21600" y="0"/>
                </a:lnTo>
                <a:lnTo>
                  <a:pt x="21600" y="22240"/>
                </a:lnTo>
                <a:lnTo>
                  <a:pt x="0" y="22240"/>
                </a:lnTo>
                <a:close/>
              </a:path>
              <a:path fill="lightenLess" w="21600" h="222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40">
                <a:moveTo>
                  <a:pt x="21600" y="0"/>
                </a:moveTo>
                <a:lnTo>
                  <a:pt x="21600" y="22240"/>
                </a:lnTo>
                <a:lnTo>
                  <a:pt x="20200" y="20840"/>
                </a:lnTo>
                <a:lnTo>
                  <a:pt x="20200" y="1400"/>
                </a:lnTo>
                <a:close/>
              </a:path>
              <a:path fill="darkenLess" w="21600" h="22240">
                <a:moveTo>
                  <a:pt x="21600" y="22240"/>
                </a:moveTo>
                <a:lnTo>
                  <a:pt x="0" y="22240"/>
                </a:lnTo>
                <a:lnTo>
                  <a:pt x="1400" y="20840"/>
                </a:lnTo>
                <a:lnTo>
                  <a:pt x="20200" y="20840"/>
                </a:lnTo>
                <a:close/>
              </a:path>
              <a:path fill="lighten" w="21600" h="22240">
                <a:moveTo>
                  <a:pt x="0" y="222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40"/>
                </a:lnTo>
                <a:close/>
              </a:path>
              <a:path fill="darken" w="21600" h="22240">
                <a:moveTo>
                  <a:pt x="3794" y="11120"/>
                </a:moveTo>
                <a:lnTo>
                  <a:pt x="17806" y="4113"/>
                </a:lnTo>
                <a:lnTo>
                  <a:pt x="17806" y="1812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896320" y="25560"/>
            <a:ext cx="20340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C457-CCD3-4E5E-8C53-7ED9F747B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OMPOSANTS.pps" TargetMode="External"/><Relationship Id="rId2" Type="http://schemas.openxmlformats.org/officeDocument/2006/relationships/hyperlink" Target="Fonctionnement.pps" TargetMode="External"/><Relationship Id="rId3" Type="http://schemas.openxmlformats.org/officeDocument/2006/relationships/hyperlink" Target="piv.pps" TargetMode="External"/><Relationship Id="rId4" Type="http://schemas.openxmlformats.org/officeDocument/2006/relationships/hyperlink" Target="gliss.pps" TargetMode="External"/><Relationship Id="rId5" Type="http://schemas.openxmlformats.org/officeDocument/2006/relationships/hyperlink" Target="heli.pps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85880" y="620640"/>
            <a:ext cx="5791320" cy="892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ICK de CO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278136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Les composants du stick de co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2"/>
              </a:rPr>
              <a:t>Les situations de fonctionn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82880"/>
            <a:ext cx="6048360" cy="368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. Observation du mécanis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005360"/>
            <a:ext cx="6048360" cy="368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. Observation des assembl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53000"/>
            <a:ext cx="49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3"/>
              </a:rPr>
              <a:t>Corps / bouton de manoeuv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4"/>
              </a:rPr>
              <a:t>Corps / support de co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Arial"/>
                <a:hlinkClick r:id="rId5"/>
              </a:rPr>
              <a:t>Bouton de manœuvre / support de co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5:10:24Z</dcterms:created>
  <dc:creator>DELAHAYE PATRICE</dc:creator>
  <dc:description/>
  <dc:language>en-US</dc:language>
  <cp:lastModifiedBy>DELAHAYE PATRICE</cp:lastModifiedBy>
  <dcterms:modified xsi:type="dcterms:W3CDTF">2002-11-06T07:19:31Z</dcterms:modified>
  <cp:revision>9</cp:revision>
  <dc:subject/>
  <dc:title>Diapositive 1</dc:title>
</cp:coreProperties>
</file>